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E2E-F532-4ED0-B04B-06D27E77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8D8-586E-4786-A63C-5CDCFF3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2DF-88CC-440C-85C9-F883AD9F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DD0-F880-4407-BC72-49BBA688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8AA-5367-4B91-AC73-FCA8A336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56B-D69F-41EC-B5CA-39C38405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7EC-E1E0-43D3-A44D-78045E41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EE7-1AFA-48DF-A799-AACBA35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89A-0F6D-4EF2-B5D4-574C215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596-A71C-4498-AFB6-B5E2A6F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055-D322-4E5D-B559-42C9647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9BA-B9A6-46C3-86E3-EC8A6D3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E49D5-4DAB-4608-8AD7-E5962D1E8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B6370-1129-465B-B5C0-51600DE16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sbalakrishnan.wikispaces.com/" TargetMode="External"/><Relationship Id="rId2" Type="http://schemas.openxmlformats.org/officeDocument/2006/relationships/hyperlink" Target="http://msbalakrishnan.wikispace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Learning in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ithili Balakrishn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gust 8,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 to my wiki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sbalakrishnan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7:14:31Z</dcterms:created>
  <dc:creator>College of Education</dc:creator>
  <dc:description/>
  <dc:language>en-US</dc:language>
  <cp:lastModifiedBy>College of Education</cp:lastModifiedBy>
  <dcterms:modified xsi:type="dcterms:W3CDTF">2009-08-08T18:34:14Z</dcterms:modified>
  <cp:revision>4</cp:revision>
  <dc:subject/>
  <dc:title>Digital Learning</dc:title>
</cp:coreProperties>
</file>